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ED21F4-65D4-48BE-B4DC-CB2124B64F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8822B-4238-4C9B-A94C-92BE87EC02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20FE12-87B2-4CB3-BD03-EA00E94F5B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10E78-6253-47D3-97EB-9A449BD18C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E0A0E20-EF23-440E-839B-97BCCD9FF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7679E5-2C22-4C01-BE2C-31A3789435F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664B3E-4C0D-4A69-9BD2-831099A729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BC58BB-021D-46A5-9395-BCC5EDB8C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F63BF6-712A-4256-8461-60A2680B1D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0FB4F0-4F07-47DB-AC8A-C2EF2DC31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02CD40-0D98-4C96-B6DF-F9536C176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58C324-1697-4689-A371-6D54102533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01A77-5C42-4B61-9353-87E064132F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A292C2-E259-404E-9F0B-73AC8A2284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A0105F9-C400-44F0-89EF-68B5C3EE7E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DF294A-F28F-45AE-B29C-0FD0E6CD18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06B1CC-D998-460C-88D4-36A41207FD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5C324F-290F-4D1B-BE06-476016A15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0A40CE-9975-49D2-BDE0-2F626E767E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BBC4B-3622-45D4-AB6F-7924E8C6C8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EC639-B2EB-487D-891B-237AB4863A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79E8-EAFE-4270-900F-22F612CC1E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E63D-6F76-4217-B314-1B9851A86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20D08-E35F-4F19-9925-BFB325E6E67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5E9F9-AA9F-436A-9189-0F2754120920}"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67857-F63B-4C3C-BCEF-FF8B65F880D7}"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hyperlink" Target="http://education.ti.com/sites/US/downloads/pdf/Research_Note_3_frequent_access.pdf"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ducation.ti.com/sites/US/downloads/pdf/research_heller_curtis.pdf" TargetMode="External"/><Relationship Id="rId2" Type="http://schemas.openxmlformats.org/officeDocument/2006/relationships/hyperlink" Target="http://education.ti.com/sites/US/downloads/pdf/research_heller_curtis.pdf" TargetMode="External"/><Relationship Id="rId3" Type="http://schemas.openxmlformats.org/officeDocument/2006/relationships/hyperlink" Target="http://education.ti.com/sites/US/downloads/pdf/research_heller_curtis.pdf" TargetMode="External"/><Relationship Id="rId4" Type="http://schemas.openxmlformats.org/officeDocument/2006/relationships/hyperlink" Target="http://education.ti.com/sites/US/downloads/pdf/research_heller_curtis.pdf" TargetMode="External"/><Relationship Id="rId5" Type="http://schemas.openxmlformats.org/officeDocument/2006/relationships/hyperlink" Target="http://education.ti.com/sites/US/downloads/pdf/research_heller_curtis.pdf"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education.ti.com/sites/US/downloads/pdf/research_dimock_sherron.pdf" TargetMode="External"/><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3"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15"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1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19"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3"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27"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u="sng">
                <a:solidFill>
                  <a:srgbClr val="999933"/>
                </a:solidFill>
                <a:uFillTx/>
                <a:latin typeface="Arial"/>
                <a:hlinkClick r:id="rId2"/>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Heller</a:t>
            </a:r>
            <a:r>
              <a:rPr b="0" lang="en-US" sz="2400" spc="-1" strike="noStrike" u="sng">
                <a:solidFill>
                  <a:srgbClr val="999933"/>
                </a:solidFill>
                <a:uFillTx/>
                <a:latin typeface="Arial"/>
                <a:hlinkClick r:id="rId4"/>
              </a:rPr>
              <a:t>, Curtis et al. 2005)</a:t>
            </a:r>
            <a:r>
              <a:rPr b="0" lang="en-US" sz="2400" spc="-1" strike="noStrike" u="sng">
                <a:solidFill>
                  <a:srgbClr val="999933"/>
                </a:solidFill>
                <a:uFillTx/>
                <a:latin typeface="Arial"/>
                <a:hlinkClick r:id="rId5"/>
              </a:rPr>
              <a:t> </a:t>
            </a:r>
            <a:endParaRPr b="0" lang="en-US" sz="24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95"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1"/>
              </a:rPr>
              <a:t> </a:t>
            </a: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45"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47"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49" name="PlaceHolder 2"/>
          <p:cNvSpPr>
            <a:spLocks noGrp="1"/>
          </p:cNvSpPr>
          <p:nvPr>
            <p:ph/>
          </p:nvPr>
        </p:nvSpPr>
        <p:spPr>
          <a:xfrm>
            <a:off x="1801800" y="2440080"/>
            <a:ext cx="602784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51"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53"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97"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55"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99"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05"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9"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9-01-01T18:10:46Z</dcterms:modified>
  <cp:revision>5</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